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6D48-6A91-4765-BACA-9D14FF8B7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F6CF-6FCA-4A5D-B24C-039CFB41A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2C0D-287E-4BB3-AF8A-DFFA8B8E7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6B77-D55B-467C-A68F-338E09B46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51092-F02F-49B8-93CD-88ECBF501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EFCFF-A147-4138-A782-413797AC5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96782-A361-4CEB-8B62-C4F2CB1C9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C9EBB-90FF-4B6A-B7CE-B315E484C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8865C-3EC2-450F-83AC-BAFAD82BB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BB646-88B1-4364-841C-C4128720D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A3C72-D6BC-45CF-8863-79A049D4F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56A5-63E0-4650-8CFF-0D16B92AE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83E8C-4035-4E6F-B771-52D9D5E3A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A92A2-AAAB-4843-BD8E-1D5702BD8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9F930-8B71-4107-B54E-0E469E847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91306-2B55-433A-9271-60D7A96BB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E34E7-4D31-4574-8EDF-BF74AE8FE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F24C-FEB5-4EA2-A55D-8E44E3935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49CB-3AC4-402A-A7F2-0AFE2EAF8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4541-095C-4E47-BB4A-295BE2FA6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8C46-6A24-41E9-8CB7-9CCA55FBB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694F-1B30-4A1E-8AB0-E910B98D4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4844-8259-447B-953C-BDE2AF8DB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0D92-88D4-4276-AFB1-A26BC3179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1A002-ED49-4C1D-AAF4-756E6BE751F5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10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94B15-09F9-4B8B-BD6D-709331FD9EF8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Creación de intros 4k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Jorge “slack” Gorb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Bernat “shash” Muñoz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46512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ecff"/>
                </a:solidFill>
                <a:latin typeface="Verdana"/>
              </a:rPr>
              <a:t>Crear la ventana usando una clase ya existente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323640" y="2781000"/>
            <a:ext cx="835164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la clase “EDIT” que ya está registrad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No usar el parámetro de la instanci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hWnd = CreateWindow("EDIT","EDIT"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WS_POPUP|WS_VISIBLE,0,0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width,height,0,0,0,0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46512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ecff"/>
                </a:solidFill>
                <a:latin typeface="Verdana"/>
              </a:rPr>
              <a:t>Generar todo el sonido durante el loading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323640" y="2349360"/>
            <a:ext cx="8351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emos sintetizador o módulo, podemos pregenerar toda la ond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Desventaj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Loading muy larg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nsumo masivo de memori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Ventaj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No necesitamos usar un thre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Toda la reproduccion de audio se reduce a una llamada a PlaySound(...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Bucle principal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323640" y="2349360"/>
            <a:ext cx="8351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omo no usamos una clase, no tenemos el WndProc (...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saremos mensaj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n bucle principal seria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while (!GetAsyncKeyState(VK_ESCAPE)) // Salimos con ES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RenderIntro (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Compresores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23640" y="2349000"/>
            <a:ext cx="83516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Solo vale la pena usar Crinkl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Programado pensando en 4k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ejor compres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ejor compatibilid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uy lento para comprimi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Usa muchisima memoria al descomprimi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Necesidad de aprender como comprim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Tecnicas para VisualC 2003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36000" y="2349360"/>
            <a:ext cx="9107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Al quitar las librerías estándar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Tenemos que definir fltused si usamos la FP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extern "C" _fltused = 1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El WinMain cambia por WinMainCRTStart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extern "C" __declspec(noreturn) void WinMainCRTStartup(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Tenemos que definir nuestro propio fto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Tecnicas para VisualC 2003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36000" y="2349360"/>
            <a:ext cx="9107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Opciones de compilació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fastcall como formato de función estandar (No siempre comprime mejor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enerar código con optimización por Velocidad o Complet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optimizaciones globa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En la generación de código, deshabilitar “Comprobación de seguridad de buffer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Intros 4k en Linux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similares a las de Window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Reducir el número de 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imports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 al mínimo (incluyendo la libc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scribir código 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compressor-friendl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Gzip-dropp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rucos específic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Funciones built-in (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intrinsics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arga de libs dinámicas “a mano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sstrip (optimización de cabeceras ELF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libc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–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nostartfiles: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elimina el código de inicialización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Nuevo punto de entrada: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_start()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. 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Debemos llamar a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exit()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 al final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–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nostdlib: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 evitamos enlazar con la libc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mo ya no tenemos exit(), debemos definir uno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ourier New"/>
              </a:rPr>
              <a:t>#define exit(code) \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ourier New"/>
              </a:rPr>
              <a:t>asm(“int $0x80;”::”a”(1),”b”(code))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Gzip-dropp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Igual que el CAB-dropping en Windows. Aprovechamos que gzip está incluido en el sistema base de cualquier distribució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#Tamaño del unpacker: 56 bytes :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a=/tmp/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tail –n+7 $0|zcat&gt;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chmod +x 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rm 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exi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[ejecutable original “gzippeado”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GCC Built-i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Versiones in-line optimizadas de funciones habitual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Por ejemplo: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sinf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cosf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memset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 ..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Ejemplo de uso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float x = __builtin_sinf(angle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-ffast-math !!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Útiles para los que no dominamos el ASM ;-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22000" y="260280"/>
            <a:ext cx="82263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Qué explicaremo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Dificultades al crear una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específicas de Window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específicas de Linux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generales a todas las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Opciones de compilació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Optimización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1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2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3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: velocid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s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: tamañ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A veces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–O</a:t>
            </a:r>
            <a:r>
              <a:rPr b="0" i="1" lang="es-ES" sz="2400" spc="-1" strike="noStrike">
                <a:solidFill>
                  <a:srgbClr val="eaeaea"/>
                </a:solidFill>
                <a:latin typeface="Courier New"/>
              </a:rPr>
              <a:t>n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genera código más pequeño (o más compresibl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fastcalls” con gcc: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__attribute__((regparm(n))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Hay una serie de flags que producen resultados poco predecibles al comprimir </a:t>
            </a:r>
            <a:r>
              <a:rPr b="0" lang="es-ES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i="1" lang="es-ES" sz="2400" spc="-1" strike="noStrike">
                <a:solidFill>
                  <a:srgbClr val="eaeaea"/>
                </a:solidFill>
                <a:latin typeface="Verdana"/>
              </a:rPr>
              <a:t>brute-forcing 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n “gc masher”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Probando versiones diferentes de GCC te puedes llevar alguna sorpresa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Carga de libs dinámic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Las secciones necesarias en la cabecera ELF para importar funciones de libs dinámicas son demasiado grand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Podemos usar dlopen() y dlsym() para cargarlas nosotros mismos en tiempo de ejecució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void *handle=dlopen(“libGL.so”, RTLD_NOW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mi_glEnable = dlsym(handle, “glEnable”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SD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cluida en la instalación básica de la mayor parte de distribuciones (estándar de facto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Nos permite crear intros portables con un poco de cuidado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: openG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2636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Objetivo: reducir el número de </a:t>
            </a:r>
            <a:r>
              <a:rPr b="0" i="1" lang="es-ES" sz="3200" spc="-1" strike="noStrike">
                <a:solidFill>
                  <a:srgbClr val="eaeaea"/>
                </a:solidFill>
                <a:latin typeface="Verdana"/>
              </a:rPr>
              <a:t>imports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y llamada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hacer </a:t>
            </a:r>
            <a:r>
              <a:rPr b="0" i="1" lang="es-ES" sz="3200" spc="-1" strike="noStrike">
                <a:solidFill>
                  <a:srgbClr val="eaeaea"/>
                </a:solidFill>
                <a:latin typeface="Verdana"/>
              </a:rPr>
              <a:t>backface culll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Enable(GL_CULL_FACE)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tilizar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GenTextures glGenLists. 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Gestiona tú mismo los ID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sar coordenadas de textura: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TexGen*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: openG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68000" y="285228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Si sólo usamos una textura, podemos usar el ID 0 sin hacer un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BindTextu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Si no usamos mipmaps solo hay que definir el modo de filtrado para GL_MIN_FILT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Reutilizar cada efecto todo lo que se pueda (si puedes usar solo uno mejor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hacer casts (si no es necesario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Usar inline para las funciones que sólo se llaman una vez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A veces puede interesar reemplazar parámetros de funciones con variables global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utilizar variables para todo aquello que sea constant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repetir cálculos complejos parecid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Es conveniente igualar constantes con valores parecidos (mejora la compresión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79280" y="2133720"/>
            <a:ext cx="87854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Links interesantes: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Código Etram: 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collapse.scenesp.org/shash/clp_etram_src.rar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eaeaea"/>
                </a:solidFill>
                <a:latin typeface="Arial"/>
              </a:rPr>
              <a:t>Código 4ks en linux: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slack.codemaniacs.com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Homepage de Fit (más fuentes de 4k en linux)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4k intro kit: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www.northerndragons.ca/mod.php?mod=userpage&amp;menu=2227&amp;page_id=76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Hugi Coding Edition:</a:t>
            </a:r>
            <a:r>
              <a:rPr b="0" i="1" lang="es-ES" sz="2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www.hugi.scene.org/main.php?page=hugise01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000" y="28522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800" spc="-1" strike="noStrike">
                <a:solidFill>
                  <a:srgbClr val="ccecff"/>
                </a:solidFill>
                <a:latin typeface="Arial"/>
              </a:rPr>
              <a:t>Preguntas?</a:t>
            </a:r>
            <a:endParaRPr b="0" lang="en-US" sz="8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822636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Hablad ahora, o callad para siempre !!!o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(o buscadnos en #demoscene en irc-hispano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22000" y="260280"/>
            <a:ext cx="82263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Qué no explicaremo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Intros 100% ensamblad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omo programar intros desde cer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reación de sintetizadores o similar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Direct3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Otras muchas cosas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Dificultades al crear un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55640" y="2565000"/>
            <a:ext cx="7920000" cy="30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existen herramientas comerciales adecuad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existen soluciones direct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ecesitamos crear todos los contenidos pensando en la limitación de 4 kb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Contenidos orientados 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68360" y="2565360"/>
            <a:ext cx="842472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podemos tratar los datos como en una dem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ualquier contenido no generado, ocuparía demasiad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En dos palabras: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GENERAR TOD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ráficos 2D/3D, música, hasta sincro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Programación orientada 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755640" y="2565000"/>
            <a:ext cx="7920000" cy="30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ar ensamblad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Más control sobre el códig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Menos productiv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Difícil de optimizar globalmen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anar a un compilador es difíci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écnicas específicas de Window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Inicialización de la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Bucle principa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o del visualC para ejecutables pequeñ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Inicialización de l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755640" y="2781000"/>
            <a:ext cx="79200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Método estándar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y registrar una clas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nuestra ventan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el thread de sonid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openG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Inicialización de l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323640" y="2781000"/>
            <a:ext cx="835164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Método para intros de 4k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la ventana usando una clase ya existen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enerar todo el sonido durante el load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openG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23:19:00Z</dcterms:created>
  <dc:creator>shash_prt</dc:creator>
  <dc:description/>
  <dc:language>en-US</dc:language>
  <cp:lastModifiedBy>shash_prt</cp:lastModifiedBy>
  <dcterms:modified xsi:type="dcterms:W3CDTF">2005-11-07T18:20:17Z</dcterms:modified>
  <cp:revision>8</cp:revision>
  <dc:subject/>
  <dc:title>Creación de intros 4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96765827</vt:r8>
  </property>
</Properties>
</file>